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C28-35EE-4807-A1F3-54D796C4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BDD-36F0-49E2-A3D2-FE61BE94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54C3-8D1E-4DD0-81C1-E0EAE859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6D6-0307-4020-B76C-2C37E79D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7FD-87AD-4560-9263-BBB1E77B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D41-6BA1-4DC1-B890-BEEACF26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449-FC3B-47F1-9AFF-184D5AAF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88C-4E7A-4B20-8FD6-62B163A1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2F9-713F-49AC-A0D4-87C39C5A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17D-7340-4636-88AF-5F9486DC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31A-07AF-4758-999E-406F68D7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0B7-BBC5-4F99-9E4F-F66BAF75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E182-C849-461F-9508-183C308193BA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Calibri"/>
              </a:rPr>
              <a:t>Correct Winter Footwea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erms 2 and 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IMGP229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IMGP23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IMGP23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IMGP228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IMGP229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IMGP23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173320" y="162864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fffff"/>
                </a:solidFill>
                <a:latin typeface="Calibri"/>
              </a:rPr>
              <a:t>Incorrect Winter Footwear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IMGP22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IMGP229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23:52:48Z</dcterms:created>
  <dc:creator>Ministry of Education</dc:creator>
  <dc:description/>
  <dc:language>en-US</dc:language>
  <cp:lastModifiedBy>michaelm</cp:lastModifiedBy>
  <dcterms:modified xsi:type="dcterms:W3CDTF">2011-04-21T03:49:21Z</dcterms:modified>
  <cp:revision>3</cp:revision>
  <dc:subject/>
  <dc:title>Winter Footwear</dc:title>
</cp:coreProperties>
</file>