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7A1-68A7-41D5-9E07-3BCDE167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639-DC18-4F5D-AE77-FBF45366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E19-3B4C-4293-81EF-5F1FAF6C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228-AF38-49E7-96B0-0398030A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5C6-EAED-476C-A57A-2D990188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296-7A1E-4D85-AF2D-AD6DF25F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B17-FCE8-4CC8-8396-3B4C6111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7D2-DF09-49FC-929E-7BC328AA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426-3DBE-4239-9FC0-FC59F825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925-4245-4053-ABF6-CF24879E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74D-B357-4935-8163-FA6421B7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AAB-9C19-4FED-AD43-59AE5984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FDC6-879F-4BA3-9BFC-76319D152BB8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Calibri"/>
              </a:rPr>
              <a:t>Correct Winter Footwea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erms 2 and 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MGP229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MGP23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IMGP23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IMGP228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IMGP229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IMGP23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173320" y="162864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ffff"/>
                </a:solidFill>
                <a:latin typeface="Calibri"/>
              </a:rPr>
              <a:t>Incorrect Winter Footwea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IMGP22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IMGP229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23:52:48Z</dcterms:created>
  <dc:creator>Ministry of Education</dc:creator>
  <dc:description/>
  <dc:language>en-US</dc:language>
  <cp:lastModifiedBy>michaelm</cp:lastModifiedBy>
  <dcterms:modified xsi:type="dcterms:W3CDTF">2011-04-21T03:49:21Z</dcterms:modified>
  <cp:revision>3</cp:revision>
  <dc:subject/>
  <dc:title>Winter Footwear</dc:title>
</cp:coreProperties>
</file>